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C570BC-1FCB-4EC6-A2AB-7394FE00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688431-6CCA-465A-9811-842512DB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73B5C6-A905-4BD8-A252-A2DE0846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971084-6142-4DA6-B8F1-806FB2CE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8EB626-9D9A-47F6-81DF-CC9CB887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DED93C-54CF-43BA-B94F-F314E71A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F39BC1-91F7-4B0A-8065-9669027A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A823D0-342B-45FF-9795-646CC911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B68DC6-77EE-4579-A1CE-FB36461BDA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9CC32-CC8E-49D1-A985-66E13DA614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19399-2627-46D5-A9BF-C126D76A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67A95-513D-48D3-AF0A-BA62B25F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8365C-7F09-44BD-A387-D83DE392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53643-33FD-447D-BE25-1C974009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DC75F-B20A-4B0D-A4CF-3D806D2B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38339-2522-4DF3-B690-8888EEC1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C9A20-8F8A-4A7C-91E1-C7B4405A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BE926-F2B6-45E1-ABBE-981F4FF3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F20A3-EF61-471D-B480-5D29B840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7DCCA-AEF6-4118-B9EE-AFC8C382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714F7-D10A-4B4A-83F4-1C3486BD29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F05CD8-D1A0-4475-92E8-A980B1DBB7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CBAB4-091F-44BB-8ABE-0407DEC2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1584A2-7CF8-46C8-B45E-2F8FF531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89964-21A6-49F5-871F-D552E6A6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4A47AA-DA66-4897-805B-7FC75452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F1C20A-7547-44C6-8F04-FF93BBCF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E46665-4790-4E75-83B9-BA02EDAF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A86838-7810-4E65-A5A1-A53868E8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FD96F8-7566-47CC-83E7-8E6C615B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63EF5-FA5C-41AC-BD74-90D895717E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A6CA54-52DD-482D-8685-3858F6D0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FBE09-289B-40F7-B925-D7409EBA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A42EC-63A5-40AD-B67A-7F12440751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8101C3-3F8C-440D-9A65-451070AD39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2FA735-940F-4F5E-AA10-21CB6430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6B804A-CFF1-4445-9CD0-432706BE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22D476-AD13-4046-A231-7E2D3B3E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0BB8AC-1970-4DC5-A3ED-BE38222B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313DD7-DA67-4393-90A4-4FA65703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FDA495-0CB8-4B82-A2DD-3A0132C8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E636-2E5E-4DED-BDDD-B13E5353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FE3DCB-1791-41D5-9C5C-B88A6C3F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0EB848-7CEE-414D-B9EC-6BFAFAE1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83E784-1545-48D2-915C-63BE5855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A79402-2BB6-49D8-8E86-AEA67310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605FD0-39DB-404C-B175-F2C05C3DA6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6279-A560-4BEF-99C7-7DBB738C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B551-B28A-405F-8CA8-8D67ED77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0A21-2A7F-4B88-8369-3792E188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084F-D980-47B3-8EAE-8C0E0449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0E34-FCE5-4921-8882-EE1CC9F5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861DF-8F3A-4882-8303-CA570AFC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387B7-2015-4100-A4AF-BD2CC24F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0AFF-1EE7-47C6-9E18-E28D4B54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9C3A-B0B4-4EF8-B420-DCE4ADAA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7E5A-D19D-40F5-B05D-D9A98E7434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5050F-F2DF-44C1-B24A-5A909A29AF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BDE10-2795-4DFB-B238-CCB2A1EA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AFF6E-9C99-4098-97CA-873A56E9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DD3F1-76C3-425C-9343-ADA6CADA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2A0A7-0D94-4D4C-9191-8CF6B223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1EF52-F8C3-485C-8A3C-34401E5E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3D154-F12F-4030-8DFB-FA05CF83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0886A-F388-46C8-BD4A-1B0DAFB6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B196B-04D2-4344-8052-76A1BCF7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93911-662A-48FB-B226-B6940548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CCB00-4C88-45E0-9D90-C4B92DA7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DA32C-AB99-44B0-8388-CD29E11B9B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6D13-2710-4705-BC04-D47C5E388D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8C05-C6FE-4A39-A1B5-184054DE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FE94-C296-486F-A935-02FE9BD4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F3A1-C68F-440A-86E0-CD7E61E2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8288-B5E1-42E2-980F-ED57F700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CE5B-EA78-4696-873D-44E8C992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57D0-1354-4E95-8EE4-679FF008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088F-DE22-4F95-8732-48C7FBCB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F2D6-892D-43B0-B289-AB3162B7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FC12-BF3F-4B6E-9DA0-D1B6E705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F26D-EC92-452E-9A43-BEB75255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7BF5-B4E2-4939-8BD4-4B684F8F7C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73773-C3B0-4040-961F-1FE4F32306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F4ED0-6CE3-47A8-8185-2813B76C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69759-A970-4313-8180-DF06B534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553F3-01A8-4881-BF2C-146AD501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2377E-A0BC-4EF8-B6A8-C57F3E15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71AD0-0D68-4F0C-B844-D24D3D3A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0B9CE-A58D-45FA-9387-83C80756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DE2FB-0C74-4E5E-832E-76D765D1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E42E7-D482-479E-91A6-7665CC5E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61736-CCEF-4624-BD03-CBB40392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78C09-F368-492A-A4E5-9C47C181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06359-53BE-4282-A256-B0D41E565B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29A758-1E26-4774-B96E-98C4155799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AE387-C015-4403-B198-A00A80A1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B86164-B95F-4BFD-8B87-9463FF21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925290-9853-4BCE-AD5B-3FB83973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A3A539-EFFA-4939-9DD4-1E91A3E0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231896-9CF3-400C-8812-7CB0C75D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DB993E-5C32-4AE0-B811-A2805CAD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121674-F88A-4D51-80A7-CCE4E674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582DB3-8193-4FE0-B43E-CB9470B3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90650A-AE36-4EE5-A6F9-0D97577B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8C11A9-E5D4-40F8-B5B7-A36D956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77B9A6-46E3-4758-982A-77A9949223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2660F-5E2B-466A-A26B-B844564516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B24DF-893C-4F12-904C-077FF97C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A25AB-3DD3-4089-BFD4-4A829472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19DAB-0AB2-4206-BF0C-CA4E0552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3434F-4E5B-46FC-940C-5F56638E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95C9A-2EBE-4D04-B8AB-C7FE57DC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98D28-A535-4B7C-A66B-0EA49036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B9E90-047D-4F31-9A8F-6702D1C1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43399-CC76-45BF-87B3-A2A7465F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8E200-1D72-4A7A-AF9E-F2871FFF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B2DB4-755F-451E-851D-D63BBC12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3CE06-4F93-425E-985E-73190D72F0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DE45EF-244C-47E4-9953-D22E7EB1A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883819-C8CF-45EF-982E-746808EE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CAFC0-CC7D-43FA-AA91-96902505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E52FD-C68E-4095-97CF-41462D19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F7D33-5A50-4F2D-961A-384E97A5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2A1C1-EC0B-456B-AE3D-DB696890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31275-88B3-403B-8F1E-9B46A1BF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A79F7-F275-4721-8ED9-E0165E92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881B70-BB57-4AB2-8F8D-32175D0E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99735-C9C7-4333-8291-2B827111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C8630-262E-4714-9C7E-92D09B6E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2E0F30-58AE-48E8-951D-2DDCF68DA8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6AB8EF-E1E7-4303-B442-8ED9C6243A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E8F2C7-08F3-45E5-BCA0-E5BC5FAE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063EF8-F69C-446C-8FD6-1FEA2DFC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17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ADFFD33-794C-4F4C-AE22-343CFAA84ED1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37577F-F86B-4F6A-81F5-AB9ABE7DE8DF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A114D53-CD12-4B9A-877F-735C60E83A73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D30DFF5-0A05-4C69-8062-292AD0A9FA0D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67F8C5C-76C6-4BE9-8928-521A5D368A13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549904-9FEC-4337-9E9B-468514A7C357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D66EA5C-3583-4628-BD5C-A699AA0FDEF5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7B1AA65-B5CC-4533-864B-A38F35FA4079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dt" idx="1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E8CC819-4644-4CBD-874E-D5DAFF57A541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300003A-707D-4FD2-B415-A097544B9057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EF7E79-5EFF-4011-B3E7-A968DE84A07F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ricardo.andrade@ana.gov.br" TargetMode="External"/><Relationship Id="rId2" Type="http://schemas.openxmlformats.org/officeDocument/2006/relationships/hyperlink" Target="mailto:cesar.pimentel@ana.gov.br" TargetMode="External"/><Relationship Id="rId3" Type="http://schemas.openxmlformats.org/officeDocument/2006/relationships/hyperlink" Target="mailto:rodrigo.carvalho@mma.gov.br" TargetMode="External"/><Relationship Id="rId4" Type="http://schemas.openxmlformats.org/officeDocument/2006/relationships/hyperlink" Target="mailto:Luciane.loutrenco@mma.gov.br" TargetMode="External"/><Relationship Id="rId5" Type="http://schemas.openxmlformats.org/officeDocument/2006/relationships/hyperlink" Target="mailto:dchristofidis@gmail.com" TargetMode="External"/><Relationship Id="rId6" Type="http://schemas.openxmlformats.org/officeDocument/2006/relationships/hyperlink" Target="mailto:dchristofidis@gmail.com" TargetMode="External"/><Relationship Id="rId7" Type="http://schemas.openxmlformats.org/officeDocument/2006/relationships/hyperlink" Target="mailto:dchristofidis@gmail.com" TargetMode="External"/><Relationship Id="rId8" Type="http://schemas.openxmlformats.org/officeDocument/2006/relationships/hyperlink" Target="mailto:emiranda@cidades.pmss.gov.br" TargetMode="External"/><Relationship Id="rId9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25360" y="6093000"/>
            <a:ext cx="869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novembro de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" y="2344680"/>
            <a:ext cx="8686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rograma de Desenvolvimento do Setor Á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520" y="433440"/>
            <a:ext cx="319248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28600" y="1981080"/>
            <a:ext cx="8686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ementação do Plano Nacional de Recursos Híd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genda da ANA em Águas Subterrâne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genda da ANA em Usos Sustentável de Água e Sol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Produtor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tlas de Abastecimento de Água e sistema de acompanhamento e atualiz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Nacional de Resíduos Sólidos Urba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de Proteção aos Mananciais Urba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137016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A –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28600" y="1981080"/>
            <a:ext cx="8686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no Nacional de Infraestrutura Híd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Desenvolvimento da Agricultura Irrig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Drenagem Urbana e Controle de Erosão Marítima e Fluv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ementação da Política Nacional de Irrig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laboração de estudos de viabilidade técnica, econômico-social, financeira e ambien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laboração de planos de segurança de barra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nejamento de ações para prevenção e controle de eventos crític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137484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B – Irrigação, Infraestrutura e Defes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1981080"/>
            <a:ext cx="868680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ementação da Política de Saneamento, nos termos da Lei nº 11.445/200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antação do Sistema Nacional de Informações em Saneamento Básico – SINI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mpliação da Rede Nacional de Capacitação e Extensão Tecnológica em Saneamento Ambiental – ReCE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pansão do Sistema Integrado de Gestão de Serviços de Saneamento – GS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ementação do Plano Nacional de Saneamento Bás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C – Sanea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28600" y="1981080"/>
            <a:ext cx="868680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jeto de Racionalização do Uso da Água na Agricult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ções de revitalização de bacias hidrográf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nejamento integrado e regulação em recursos hídricos e saneamento; em energia e navegação; eficiência energética nos serviços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atibilização de hidrovias e aproveitamentos hidrelétr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atibilização e integração de procedimentos de licenciamento ambiental - reunindo estudos de aproveitamentos hidrelétricos, planos estratégicos de bacias hidrográficas, avaliação ambiental integr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D – Ações em Bacias Selecion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28600" y="198108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companhamento das ações, de modo a assegurar o cumprimento das metas, dos cronogramas e dos objetiv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inanciamento das atividades das unidades de gerenci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senvolvimento e implantação de sistema de monitoramento e avali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laboração e implementação do Plano de Comunic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137808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E – Monitoramento e Avali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r" pos="86979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Valores </a:t>
            </a: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(US$ mil)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18960" y="1800360"/>
            <a:ext cx="8507520" cy="1774800"/>
            <a:chOff x="318960" y="1800360"/>
            <a:chExt cx="8507520" cy="1774800"/>
          </a:xfrm>
        </p:grpSpPr>
        <p:sp>
          <p:nvSpPr>
            <p:cNvPr id="618" name=""/>
            <p:cNvSpPr/>
            <p:nvPr/>
          </p:nvSpPr>
          <p:spPr>
            <a:xfrm>
              <a:off x="318960" y="1800360"/>
              <a:ext cx="4162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POR COMPONEN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81640" y="1800360"/>
              <a:ext cx="14475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Emprésti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29200" y="18003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Contrapart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77120" y="18003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960" y="2022480"/>
              <a:ext cx="1479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98560" y="2022480"/>
              <a:ext cx="2444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043000" y="2022480"/>
              <a:ext cx="2438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Recursos Hídr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81640" y="2022480"/>
              <a:ext cx="1447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3.2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29200" y="202248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1.07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77120" y="202248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44.3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8960" y="2243160"/>
              <a:ext cx="14796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B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98560" y="2243160"/>
              <a:ext cx="2444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43000" y="2243160"/>
              <a:ext cx="24386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Infraestrutura Hídric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81640" y="2243160"/>
              <a:ext cx="14475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0.8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29200" y="22431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6.95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77120" y="22431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7.8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8960" y="2465280"/>
              <a:ext cx="14796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98560" y="2465280"/>
              <a:ext cx="24444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43000" y="2465280"/>
              <a:ext cx="243864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Saneam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81640" y="2465280"/>
              <a:ext cx="144756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4.3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929200" y="2465280"/>
              <a:ext cx="144792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8.12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377120" y="2465280"/>
              <a:ext cx="144792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2.5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8960" y="2687760"/>
              <a:ext cx="1479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98560" y="2687760"/>
              <a:ext cx="2444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043000" y="2687760"/>
              <a:ext cx="2438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Ações Intersetor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81640" y="2687760"/>
              <a:ext cx="1447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5.7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29200" y="268776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5.25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77120" y="268776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1.0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8960" y="2908440"/>
              <a:ext cx="14796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98560" y="2908440"/>
              <a:ext cx="2444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43000" y="2908440"/>
              <a:ext cx="24386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Monitoramento e Avaliaçã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81640" y="2908440"/>
              <a:ext cx="14475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.3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29200" y="290844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.12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77120" y="290844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4.5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8960" y="3130560"/>
              <a:ext cx="41626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OT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81640" y="3130560"/>
              <a:ext cx="14475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97.5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29200" y="31305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32.52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77120" y="31305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130.1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81640" y="3352680"/>
              <a:ext cx="1447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29200" y="335268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5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77120" y="335268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00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81640" y="1800360"/>
              <a:ext cx="144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29200" y="1800360"/>
              <a:ext cx="180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77120" y="1800360"/>
              <a:ext cx="144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8960" y="202248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18960" y="224316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8960" y="2465280"/>
              <a:ext cx="8506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8960" y="268776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8960" y="290844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8960" y="313056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81640" y="3352680"/>
              <a:ext cx="43434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8960" y="1800360"/>
              <a:ext cx="180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825040" y="1800360"/>
              <a:ext cx="144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8960" y="180036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8960" y="3573360"/>
              <a:ext cx="8506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79280" y="4219560"/>
            <a:ext cx="8821800" cy="1541520"/>
            <a:chOff x="179280" y="4219560"/>
            <a:chExt cx="8821800" cy="1541520"/>
          </a:xfrm>
        </p:grpSpPr>
        <p:sp>
          <p:nvSpPr>
            <p:cNvPr id="674" name=""/>
            <p:cNvSpPr/>
            <p:nvPr/>
          </p:nvSpPr>
          <p:spPr>
            <a:xfrm>
              <a:off x="179280" y="4219560"/>
              <a:ext cx="432288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POR EXECUTO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02160" y="4219560"/>
              <a:ext cx="33703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COMPON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872480" y="4219560"/>
              <a:ext cx="112716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02160" y="444024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Seto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26080" y="444024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Interseto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750000" y="4440240"/>
              <a:ext cx="1122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Monito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9280" y="4659480"/>
              <a:ext cx="26701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Ministério do Meio Ambiente 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9640" y="4659480"/>
              <a:ext cx="16225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Recursos Hídr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502160" y="4659480"/>
              <a:ext cx="11239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44.3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26080" y="4659480"/>
              <a:ext cx="11239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7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50000" y="4659480"/>
              <a:ext cx="112248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872480" y="4659480"/>
              <a:ext cx="11271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52.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9280" y="4879800"/>
              <a:ext cx="26701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49400" y="4879800"/>
              <a:ext cx="201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52800" y="4879800"/>
              <a:ext cx="1449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Infraestru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02160" y="487980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7.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26080" y="487980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7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50000" y="4879800"/>
              <a:ext cx="1122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872480" y="4879800"/>
              <a:ext cx="1127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6.3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9280" y="5099040"/>
              <a:ext cx="26701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Ministério das Cida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49400" y="5099040"/>
              <a:ext cx="201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52800" y="5099040"/>
              <a:ext cx="1449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Saneam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02160" y="5099040"/>
              <a:ext cx="1123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2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26080" y="5099040"/>
              <a:ext cx="1123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7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50000" y="5099040"/>
              <a:ext cx="11224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72480" y="5099040"/>
              <a:ext cx="11271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4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9280" y="5319720"/>
              <a:ext cx="4322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OT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502160" y="531972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104.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626080" y="531972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2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50000" y="5319720"/>
              <a:ext cx="1122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4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872480" y="5319720"/>
              <a:ext cx="1127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130.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02160" y="5538960"/>
              <a:ext cx="11239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80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26080" y="5538960"/>
              <a:ext cx="11239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6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750000" y="5538960"/>
              <a:ext cx="112248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872480" y="5538960"/>
              <a:ext cx="11271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00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02160" y="4219560"/>
              <a:ext cx="1440" cy="15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26080" y="4440240"/>
              <a:ext cx="1440" cy="1319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50000" y="4440240"/>
              <a:ext cx="1800" cy="1319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872480" y="4219560"/>
              <a:ext cx="1440" cy="15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02160" y="4440240"/>
              <a:ext cx="33703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9280" y="4659480"/>
              <a:ext cx="882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9280" y="4879800"/>
              <a:ext cx="8820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9280" y="5099040"/>
              <a:ext cx="882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9280" y="5319720"/>
              <a:ext cx="882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02160" y="5538960"/>
              <a:ext cx="44974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9280" y="4219560"/>
              <a:ext cx="1800" cy="15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999640" y="4219560"/>
              <a:ext cx="1440" cy="15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9280" y="4219560"/>
              <a:ext cx="882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9280" y="5759280"/>
              <a:ext cx="8820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66680" y="4873680"/>
            <a:ext cx="3060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nistério da Integração Nacional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228600" y="2933640"/>
            <a:ext cx="86472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idade de Preparação do Programa – UPP, instituída pela Resolução ANA 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555, de 11 de agosto de 2009, que tem como funções princip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entralizar o planej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acompanhar a preparação das atividades dos componentes setoriais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oordenar a preparação das atividades do componente interseto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ação dos membros representantes de cada Executor, por meio da Portaria ANA 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221, de 13 de outubro de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1998720"/>
            <a:ext cx="8686800" cy="83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arta-Consulta aprovada pela COFIEX na 83ª Reuni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comendação nº 1118, 13 de julh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137808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ituação A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Cronograma da Preparação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" y="2301840"/>
            <a:ext cx="868680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1000" indent="-2151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5100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zembro 2009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rovação do Programa pelo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Banco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1000" indent="-2151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5100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rço de 201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rovação do Programa pelo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Senado Fed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1000" indent="-2151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5100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bril de 201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Lançamento dos Editai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 Sel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1000" indent="-2151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5100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ulho de 201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Início das contrataçõ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as ações do primeiro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137808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Datas estimadas pela Equipe de Preparação – UPP e B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Premissas para identificação de 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8600" y="1981080"/>
            <a:ext cx="8686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abrangência do INTERÁGUAS é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todo o território naciona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be a cada executor definir a concentração das suas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ções setoriai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cessidade de concentrar as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ções intersetoriai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priorizando áreas com insuficiência no planejamento e gest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136836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28600" y="505764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lnSpc>
                <a:spcPct val="100000"/>
              </a:lnSpc>
              <a:tabLst>
                <a:tab algn="l" pos="0"/>
                <a:tab algn="l" pos="5396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bs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ara a concentração das ações intersetoriais, foram selecionadas duas bacias para as ações setoriais prioritárias: São Francisco e Araguaia-Tocant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Informações Complemen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137304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TERSETORIA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28600" y="1981080"/>
            <a:ext cx="86472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 ações intersetoriais envolvem mais de uma instituição ou ministé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ndo se tratar de um ou mais dos ministérios executores do Programa, as ações serão coordenadas pelo executor que tiver maior afinidade com a ação pretendida, a critério do Comitê Ge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derão ser envolvidos, em casos específicos, outras instituições que não façam parte dos ministérios executores. Nesses casos, a ação intersetorial seria coordenada pelo ministério exec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28600" y="1660680"/>
            <a:ext cx="86868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1.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s Usos Múltiplos da Águ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Justific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incipais Executores e Instituições Potencialmente Envolv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rranjo Institucio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emplos de Ações Prev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Valores (em US$)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Sumá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454176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2.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ituação A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onograma da Preparação – Estim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emissa para identificação das A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formações Complement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embros Integrantes da Unidade de Preparação do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Informações Complemen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137304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TERSETORIA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8600" y="1981080"/>
            <a:ext cx="86472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 ações mais complexas, envolvendo várias instituições, poderá ser necessário estruturar um grupo de trabalho formal, como é o caso do planejamento conjunto de empreendimentos hidrelétricos e navegação fluv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jetos já em desenvolvimento pelos ministérios executores poderão derivar para ações a serem parcial ou totalmente apoiadas pelo Interágu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Secretaria Técnica do Programa, integrada pelos três ministérios executores, estará atenta para evitar que haja superposição de 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Unidade de 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228600" y="1619280"/>
            <a:ext cx="8688240" cy="4707000"/>
            <a:chOff x="228600" y="1619280"/>
            <a:chExt cx="8688240" cy="4707000"/>
          </a:xfrm>
        </p:grpSpPr>
        <p:sp>
          <p:nvSpPr>
            <p:cNvPr id="749" name=""/>
            <p:cNvSpPr/>
            <p:nvPr/>
          </p:nvSpPr>
          <p:spPr>
            <a:xfrm>
              <a:off x="228600" y="1619280"/>
              <a:ext cx="8686800" cy="41436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Membros integrantes da U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8600" y="2033640"/>
              <a:ext cx="8686800" cy="414360"/>
            </a:xfrm>
            <a:prstGeom prst="rect">
              <a:avLst/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ela Agência Nacional de Águ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28600" y="2448000"/>
              <a:ext cx="4343400" cy="68724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Ricardo Medeiros de Andr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1"/>
                </a:rPr>
                <a:t>ricardo.andrade@ana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572000" y="2448000"/>
              <a:ext cx="4343400" cy="68724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Cesar Eduardo Bertozzo Pimen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 u="sng">
                  <a:solidFill>
                    <a:srgbClr val="ccccff"/>
                  </a:solidFill>
                  <a:uFillTx/>
                  <a:latin typeface="Calibri"/>
                  <a:hlinkClick r:id="rId2"/>
                </a:rPr>
                <a:t>cesar.pimentel@ana.gov.b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8600" y="3135240"/>
              <a:ext cx="8686800" cy="412920"/>
            </a:xfrm>
            <a:prstGeom prst="rect">
              <a:avLst/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ela Secretaria de Recursos Hídricos e Ambiente Urbano do Ministério do Meio Amb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28600" y="3548160"/>
              <a:ext cx="4343400" cy="69840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Rodrigo Speziali Carvalh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3"/>
                </a:rPr>
                <a:t>rodrigo.carvalho@mma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72000" y="3548160"/>
              <a:ext cx="4343400" cy="69840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Luciane Lourenç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4"/>
                </a:rPr>
                <a:t>luciane.loutrenco@mma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28600" y="4246560"/>
              <a:ext cx="8686800" cy="412920"/>
            </a:xfrm>
            <a:prstGeom prst="rect">
              <a:avLst/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ela Secretaria de Infraestrutura Hídrica do Ministério da Integração 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8600" y="4659480"/>
              <a:ext cx="4343400" cy="62532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Demetrios Christofid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5"/>
                </a:rPr>
                <a:t>dchristofidis@gmail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72000" y="4659480"/>
              <a:ext cx="4343400" cy="62532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Josimar Alves de Olivei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6"/>
                </a:rPr>
                <a:t>josimar.oliveira@integracao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28600" y="5284800"/>
              <a:ext cx="8686800" cy="414360"/>
            </a:xfrm>
            <a:prstGeom prst="rect">
              <a:avLst/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ela Secretaria Nacional de Saneamento Ambiental do Ministério das C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8600" y="5699160"/>
              <a:ext cx="4343400" cy="62532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Sergio Antonio Gonçal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7"/>
                </a:rPr>
                <a:t>sergio.goncalves@cidades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572000" y="5699160"/>
              <a:ext cx="4343400" cy="62532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Ernani Miran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8"/>
                </a:rPr>
                <a:t>ernani.miranda@cidades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72000" y="2448000"/>
              <a:ext cx="1440" cy="68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572000" y="3548160"/>
              <a:ext cx="1440" cy="69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4659480"/>
              <a:ext cx="14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572000" y="5699160"/>
              <a:ext cx="14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8600" y="2033640"/>
              <a:ext cx="8686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" y="244800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8600" y="3135240"/>
              <a:ext cx="8686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8600" y="354816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28600" y="424656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8600" y="465948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8600" y="528480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8600" y="569916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8600" y="1619280"/>
              <a:ext cx="1440" cy="470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915400" y="1619280"/>
              <a:ext cx="1440" cy="470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8600" y="161928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8600" y="6324480"/>
              <a:ext cx="8686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990720"/>
            <a:ext cx="9144000" cy="3999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287964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1f497d"/>
                </a:solidFill>
                <a:latin typeface="Calibri"/>
              </a:rPr>
              <a:t>Obrig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8960" y="3149640"/>
            <a:ext cx="850608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Os Usos Múltiplos da 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3852360" y="5208480"/>
            <a:ext cx="1476000" cy="1354680"/>
            <a:chOff x="3852360" y="5208480"/>
            <a:chExt cx="1476000" cy="1354680"/>
          </a:xfrm>
        </p:grpSpPr>
        <p:sp>
          <p:nvSpPr>
            <p:cNvPr id="535" name=""/>
            <p:cNvSpPr/>
            <p:nvPr/>
          </p:nvSpPr>
          <p:spPr>
            <a:xfrm>
              <a:off x="3852360" y="628668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Recreação e Turis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" descr=""/>
            <p:cNvPicPr/>
            <p:nvPr/>
          </p:nvPicPr>
          <p:blipFill>
            <a:blip r:embed="rId1"/>
            <a:stretch/>
          </p:blipFill>
          <p:spPr>
            <a:xfrm>
              <a:off x="3875040" y="5208480"/>
              <a:ext cx="1438200" cy="10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"/>
          <p:cNvGrpSpPr/>
          <p:nvPr/>
        </p:nvGrpSpPr>
        <p:grpSpPr>
          <a:xfrm>
            <a:off x="6607080" y="1800360"/>
            <a:ext cx="1739880" cy="1354320"/>
            <a:chOff x="6607080" y="1800360"/>
            <a:chExt cx="1739880" cy="1354320"/>
          </a:xfrm>
        </p:grpSpPr>
        <p:sp>
          <p:nvSpPr>
            <p:cNvPr id="538" name=""/>
            <p:cNvSpPr/>
            <p:nvPr/>
          </p:nvSpPr>
          <p:spPr>
            <a:xfrm>
              <a:off x="6607080" y="2878200"/>
              <a:ext cx="173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Abastecimento Indust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" descr=""/>
            <p:cNvPicPr/>
            <p:nvPr/>
          </p:nvPicPr>
          <p:blipFill>
            <a:blip r:embed="rId2"/>
            <a:stretch/>
          </p:blipFill>
          <p:spPr>
            <a:xfrm>
              <a:off x="6750000" y="1800360"/>
              <a:ext cx="1440000" cy="10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"/>
          <p:cNvGrpSpPr/>
          <p:nvPr/>
        </p:nvGrpSpPr>
        <p:grpSpPr>
          <a:xfrm>
            <a:off x="3822840" y="1800360"/>
            <a:ext cx="1447560" cy="1357560"/>
            <a:chOff x="3822840" y="1800360"/>
            <a:chExt cx="1447560" cy="1357560"/>
          </a:xfrm>
        </p:grpSpPr>
        <p:pic>
          <p:nvPicPr>
            <p:cNvPr id="541" name="" descr=""/>
            <p:cNvPicPr/>
            <p:nvPr/>
          </p:nvPicPr>
          <p:blipFill>
            <a:blip r:embed="rId3"/>
            <a:stretch/>
          </p:blipFill>
          <p:spPr>
            <a:xfrm>
              <a:off x="3822840" y="1800360"/>
              <a:ext cx="143964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3822840" y="28814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Irriga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844920" y="1800360"/>
            <a:ext cx="1684800" cy="1357560"/>
            <a:chOff x="844920" y="1800360"/>
            <a:chExt cx="1684800" cy="1357560"/>
          </a:xfrm>
        </p:grpSpPr>
        <p:sp>
          <p:nvSpPr>
            <p:cNvPr id="544" name=""/>
            <p:cNvSpPr/>
            <p:nvPr/>
          </p:nvSpPr>
          <p:spPr>
            <a:xfrm>
              <a:off x="844920" y="2881440"/>
              <a:ext cx="168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Abastecimento 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" descr=""/>
            <p:cNvPicPr/>
            <p:nvPr/>
          </p:nvPicPr>
          <p:blipFill>
            <a:blip r:embed="rId4"/>
            <a:stretch/>
          </p:blipFill>
          <p:spPr>
            <a:xfrm>
              <a:off x="974880" y="1800360"/>
              <a:ext cx="1439640" cy="1079280"/>
            </a:xfrm>
            <a:prstGeom prst="rect">
              <a:avLst/>
            </a:prstGeom>
            <a:ln w="25560">
              <a:solidFill>
                <a:srgbClr val="4f81bd"/>
              </a:solidFill>
              <a:miter/>
            </a:ln>
          </p:spPr>
        </p:pic>
      </p:grpSp>
      <p:grpSp>
        <p:nvGrpSpPr>
          <p:cNvPr id="546" name=""/>
          <p:cNvGrpSpPr/>
          <p:nvPr/>
        </p:nvGrpSpPr>
        <p:grpSpPr>
          <a:xfrm>
            <a:off x="957240" y="3524400"/>
            <a:ext cx="1461960" cy="1354320"/>
            <a:chOff x="957240" y="3524400"/>
            <a:chExt cx="1461960" cy="1354320"/>
          </a:xfrm>
        </p:grpSpPr>
        <p:sp>
          <p:nvSpPr>
            <p:cNvPr id="547" name=""/>
            <p:cNvSpPr/>
            <p:nvPr/>
          </p:nvSpPr>
          <p:spPr>
            <a:xfrm>
              <a:off x="957240" y="4602240"/>
              <a:ext cx="146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Navega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8" name="" descr=""/>
            <p:cNvPicPr/>
            <p:nvPr/>
          </p:nvPicPr>
          <p:blipFill>
            <a:blip r:embed="rId5"/>
            <a:stretch/>
          </p:blipFill>
          <p:spPr>
            <a:xfrm>
              <a:off x="971640" y="3524400"/>
              <a:ext cx="1439640" cy="10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"/>
          <p:cNvGrpSpPr/>
          <p:nvPr/>
        </p:nvGrpSpPr>
        <p:grpSpPr>
          <a:xfrm>
            <a:off x="1015920" y="5208480"/>
            <a:ext cx="1440000" cy="1360800"/>
            <a:chOff x="1015920" y="5208480"/>
            <a:chExt cx="1440000" cy="1360800"/>
          </a:xfrm>
        </p:grpSpPr>
        <p:sp>
          <p:nvSpPr>
            <p:cNvPr id="550" name=""/>
            <p:cNvSpPr/>
            <p:nvPr/>
          </p:nvSpPr>
          <p:spPr>
            <a:xfrm>
              <a:off x="1021680" y="6292800"/>
              <a:ext cx="140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Pesca e Aquicu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1" name="" descr=""/>
            <p:cNvPicPr/>
            <p:nvPr/>
          </p:nvPicPr>
          <p:blipFill>
            <a:blip r:embed="rId6"/>
            <a:stretch/>
          </p:blipFill>
          <p:spPr>
            <a:xfrm>
              <a:off x="1015920" y="5208480"/>
              <a:ext cx="1440000" cy="1081080"/>
            </a:xfrm>
            <a:prstGeom prst="rect">
              <a:avLst/>
            </a:prstGeom>
            <a:ln w="25560">
              <a:solidFill>
                <a:srgbClr val="4f81bd"/>
              </a:solidFill>
              <a:miter/>
            </a:ln>
          </p:spPr>
        </p:pic>
      </p:grpSp>
      <p:grpSp>
        <p:nvGrpSpPr>
          <p:cNvPr id="552" name=""/>
          <p:cNvGrpSpPr/>
          <p:nvPr/>
        </p:nvGrpSpPr>
        <p:grpSpPr>
          <a:xfrm>
            <a:off x="6778800" y="5208480"/>
            <a:ext cx="1485360" cy="1352880"/>
            <a:chOff x="6778800" y="5208480"/>
            <a:chExt cx="1485360" cy="1352880"/>
          </a:xfrm>
        </p:grpSpPr>
        <p:pic>
          <p:nvPicPr>
            <p:cNvPr id="553" name="" descr=""/>
            <p:cNvPicPr/>
            <p:nvPr/>
          </p:nvPicPr>
          <p:blipFill>
            <a:blip r:embed="rId7">
              <a:lum contrast="12000"/>
            </a:blip>
            <a:stretch/>
          </p:blipFill>
          <p:spPr>
            <a:xfrm>
              <a:off x="6800760" y="5208480"/>
              <a:ext cx="144000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778800" y="6284880"/>
              <a:ext cx="148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Diluição de Efluen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822840" y="3524400"/>
            <a:ext cx="1447560" cy="1360440"/>
            <a:chOff x="3822840" y="3524400"/>
            <a:chExt cx="1447560" cy="1360440"/>
          </a:xfrm>
        </p:grpSpPr>
        <p:sp>
          <p:nvSpPr>
            <p:cNvPr id="556" name=""/>
            <p:cNvSpPr/>
            <p:nvPr/>
          </p:nvSpPr>
          <p:spPr>
            <a:xfrm>
              <a:off x="3822840" y="4608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Hidroeletric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" descr=""/>
            <p:cNvPicPr/>
            <p:nvPr/>
          </p:nvPicPr>
          <p:blipFill>
            <a:blip r:embed="rId8"/>
            <a:stretch/>
          </p:blipFill>
          <p:spPr>
            <a:xfrm>
              <a:off x="3822840" y="3524400"/>
              <a:ext cx="1439640" cy="10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"/>
          <p:cNvGrpSpPr/>
          <p:nvPr/>
        </p:nvGrpSpPr>
        <p:grpSpPr>
          <a:xfrm>
            <a:off x="6753240" y="3524400"/>
            <a:ext cx="1447920" cy="1359000"/>
            <a:chOff x="6753240" y="3524400"/>
            <a:chExt cx="1447920" cy="1359000"/>
          </a:xfrm>
        </p:grpSpPr>
        <p:sp>
          <p:nvSpPr>
            <p:cNvPr id="559" name=""/>
            <p:cNvSpPr/>
            <p:nvPr/>
          </p:nvSpPr>
          <p:spPr>
            <a:xfrm>
              <a:off x="6753240" y="46069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Controle de Che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0" name="" descr=""/>
            <p:cNvPicPr/>
            <p:nvPr/>
          </p:nvPicPr>
          <p:blipFill>
            <a:blip r:embed="rId9"/>
            <a:stretch/>
          </p:blipFill>
          <p:spPr>
            <a:xfrm>
              <a:off x="6753240" y="3524400"/>
              <a:ext cx="1440000" cy="10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28600" y="1557360"/>
            <a:ext cx="864720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cessidade de buscar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melhor articulação e coordenação de ações no setor águ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usos múltiplos dos recursos e serviços associad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iar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mbiente integrador, com autonomia e flexibilidad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os setores participantes, tanto na proposição quanto na execução das 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ar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ntinuidade a programas setoriais exitoso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PMSS, PROÁGUA, etc.) e tratamento mais explícito de temas transversais prioritá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talecer iniciativas de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rticulação intersetorial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á em curs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buscando maior eficiência na implementação e respostas mais ráp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Justifi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28600" y="1565280"/>
            <a:ext cx="8647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grama a ser viabilizado por meio de um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cordo de empréstimo com o Banco Mundia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cujo objetivo é dar suporte à implementação de políticas e planos nacionais no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etor águ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apoiando programas setoriais específicos e facilitando o tratamento integrado de temas transversais de intere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8960" y="4424400"/>
            <a:ext cx="85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8272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alor do Empréstimo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té US$ 95.575.000,00 (75%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18960" y="5629320"/>
            <a:ext cx="85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alor total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até US$ 130.1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18960" y="4876920"/>
            <a:ext cx="855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8272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trapartida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até US$ 32.525.000,00 (25%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República Federativa d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18960" y="6081840"/>
            <a:ext cx="85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azo de Execução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5 (cinco) 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9280" y="1335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ribuir para o fortalecimento da capacidade de planejamento e gestão no setor água, vis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39640" y="2160720"/>
            <a:ext cx="83250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450720"/>
                <a:tab algn="l" pos="1365120"/>
                <a:tab algn="l" pos="2279520"/>
                <a:tab algn="l" pos="3193920"/>
                <a:tab algn="l" pos="4108320"/>
                <a:tab algn="l" pos="5022720"/>
                <a:tab algn="l" pos="5937120"/>
                <a:tab algn="l" pos="6851520"/>
                <a:tab algn="l" pos="7765920"/>
                <a:tab algn="l" pos="8680320"/>
                <a:tab algn="l" pos="9594720"/>
                <a:tab algn="l" pos="1050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umentar a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eficiência no uso da água e na prestação de serviço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450720"/>
                <a:tab algn="l" pos="1365120"/>
                <a:tab algn="l" pos="2279520"/>
                <a:tab algn="l" pos="3193920"/>
                <a:tab algn="l" pos="4108320"/>
                <a:tab algn="l" pos="5022720"/>
                <a:tab algn="l" pos="5937120"/>
                <a:tab algn="l" pos="6851520"/>
                <a:tab algn="l" pos="7765920"/>
                <a:tab algn="l" pos="8680320"/>
                <a:tab algn="l" pos="9594720"/>
                <a:tab algn="l" pos="1050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umentar a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oferta sustentável de água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 quantidade e qualidade adequadas aos usos múltiplos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450720"/>
                <a:tab algn="l" pos="1365120"/>
                <a:tab algn="l" pos="2279520"/>
                <a:tab algn="l" pos="3193920"/>
                <a:tab algn="l" pos="4108320"/>
                <a:tab algn="l" pos="5022720"/>
                <a:tab algn="l" pos="5937120"/>
                <a:tab algn="l" pos="6851520"/>
                <a:tab algn="l" pos="7765920"/>
                <a:tab algn="l" pos="8680320"/>
                <a:tab algn="l" pos="9594720"/>
                <a:tab algn="l" pos="1050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lhorar a aplicação de recursos público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setor água, com a consequente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dução de deseconomia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usadas por deficiências na articulação e na coordenação intersetori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5580000"/>
            <a:ext cx="8820360" cy="11912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ta-se de um programa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exclusivamente</a:t>
            </a:r>
            <a:r>
              <a:rPr b="1" lang="en-GB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oltado para o  </a:t>
            </a:r>
            <a:br>
              <a:rPr sz="2400"/>
            </a:b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lanejamento e gestão no setor água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ão possuindo recursos para ob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Principais Exec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" y="1582560"/>
            <a:ext cx="864720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o Meio Amb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 de Recursos Hídricos e Ambiente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gência Nacional de Ág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a Integração N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 de Infraestrutura Híd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 Nacional de Defes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as C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 Nacional de Saneamento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415296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Instituições Potencialmente Envolv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8600" y="4737240"/>
            <a:ext cx="8647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e Minas e Ener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os Transpo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a Agricultura, Pecuária e Abastec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o Desenvolvimento Agrá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a Saúde - FUN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Arranjo I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318960" y="1538280"/>
            <a:ext cx="6786720" cy="4977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105680" y="1851120"/>
            <a:ext cx="1628640" cy="834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embros Consul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ME - MT - MA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0040" y="1619280"/>
            <a:ext cx="8325000" cy="1123920"/>
          </a:xfrm>
          <a:prstGeom prst="rect">
            <a:avLst/>
          </a:prstGeom>
          <a:noFill/>
          <a:ln w="190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1533600"/>
            <a:ext cx="8647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A –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B – Irrigação, Infraestrutura e Defesa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C – Sane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D – Ações em Bacias Selecio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E – Monitoramento e 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71480" y="4511520"/>
            <a:ext cx="7510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da um dos três primeiros componentes desdobra-se em três subcomponen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bcomponente Planejamento e Gest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bcomponente Estudos e 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bcomponente Fortalecimento Institu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ardo.andrade</dc:creator>
  <dc:description/>
  <dc:language>en-US</dc:language>
  <cp:lastModifiedBy>Ricardo</cp:lastModifiedBy>
  <cp:revision>0</cp:revision>
  <dc:subject/>
  <dc:title>Slide 1</dc:title>
</cp:coreProperties>
</file>